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02451-F325-4FFA-8779-018536396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0A2E-5C48-4C77-ABC6-D7C5F0649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AAC7D-0229-4084-8277-4FC4EADDB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C688F-F561-4A97-84BE-66066091D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E8AAB13-7DE9-4F0B-BECD-E966A03B5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D6547F-428A-4021-A4E0-A5C18E9EB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4F9F58D-98C3-4685-A514-EB22EBF1A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CF1E8AD-3F09-4839-97E1-33C0AEFF6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B1D48B-F5AC-4675-B56D-9730A3E62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388776-4AAA-4698-9841-E623D273A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22562F-5D24-4344-8A49-138F6692F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7F2A6-3F04-4471-9B90-6679B2AFE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F11618-D016-4172-875B-46C41C124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13C3EF-71F0-4B72-9B33-DC1D8D113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6E00EA-C1EA-421E-88C7-0C4F72BC8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B0D087D-490F-42CE-8663-F6D6F3749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2FA6F25-5686-43F8-9B64-3524B6465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672B6-D990-44DA-9097-01E7EF9C1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F7071-AFDD-4C4D-BEE3-ED64F62FA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C0AEF-3EE3-4590-9F49-58016111F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3D8A7-9BFE-4F73-89F7-F20E57DBB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D0D8A-3A02-4D32-B4DA-5CE36542C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0BD77-19DF-478C-8233-7C07D1A80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BB5C1-B502-42FE-B3FF-B83B550F7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9650-8D15-4380-9650-0FC2FFCC427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D20C-0093-40AA-967E-4A849819D33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حصص الملكية فى المشروعات المشترك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0" y="60213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51280" y="1219320"/>
            <a:ext cx="48355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مليات الخاضعة لسيطرة مشتركة </a:t>
            </a:r>
            <a:endParaRPr b="0" lang="en-US" sz="3200" spc="-1" strike="noStrike">
              <a:solidFill>
                <a:srgbClr val="e3e3ff"/>
              </a:solidFill>
              <a:latin typeface="Arial"/>
            </a:endParaRPr>
          </a:p>
        </p:txBody>
      </p:sp>
      <p:sp>
        <p:nvSpPr>
          <p:cNvPr id="142"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يتضمن إستخدام موارد المشروع المشترك بواسطة المشتركين فى المشروع ولا يكون له هيكل منفصل، وكمثال على ذلك يشترك أثنان أو أكثر من الاطراف المرتبطة فى الموارد والمجهودات لتصنيع وتسويق وبيع المنتج بشكل مشترك مثل الطائر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708000" y="1196640"/>
            <a:ext cx="51116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4" name="PlaceHolder 2"/>
          <p:cNvSpPr>
            <a:spLocks noGrp="1"/>
          </p:cNvSpPr>
          <p:nvPr>
            <p:ph/>
          </p:nvPr>
        </p:nvSpPr>
        <p:spPr>
          <a:xfrm>
            <a:off x="684000" y="2133720"/>
            <a:ext cx="8111880" cy="230328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بعض المشروعات المشتركة تستلزم سيطرة وملكية مشترك على واحد أو أكثر من الأصول التى يتم الاستحواذ عليها لأغراض المشروع المشترك (على سبيل المثال، إشترك أكثر من مصنع فى خط سكة حديد واحد) ولا يكون من الضرورى إنشاء منشأة مستق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219320"/>
            <a:ext cx="670716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نشآت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6"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هى عبارة عن مشروعات مشتركة يتم إدارتها من خلال منشآت مستقلة والتى تكون لها حصة ملكية فى المشروع المشترك، والمثال السابق هو اتحاد بين منشأتين فيما يتعلق بخط أعمال من خلال تحويل أصول والتزامات الى المشروع المشتر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219320"/>
            <a:ext cx="813744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بالحصص فى العمليات الخاضعة لسيطرة الش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48" name="PlaceHolder 2"/>
          <p:cNvSpPr>
            <a:spLocks noGrp="1"/>
          </p:cNvSpPr>
          <p:nvPr>
            <p:ph/>
          </p:nvPr>
        </p:nvSpPr>
        <p:spPr>
          <a:xfrm>
            <a:off x="468000" y="2349000"/>
            <a:ext cx="8224920" cy="2303640"/>
          </a:xfrm>
          <a:prstGeom prst="rect">
            <a:avLst/>
          </a:prstGeom>
          <a:noFill/>
          <a:ln w="0">
            <a:noFill/>
          </a:ln>
        </p:spPr>
        <p:txBody>
          <a:bodyPr lIns="90000" rIns="90000" tIns="46800" bIns="46800" anchor="t">
            <a:normAutofit fontScale="84000"/>
          </a:bodyPr>
          <a:p>
            <a:pPr marL="4532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ترف فى القوائم المالية المجمعة والمنفصلة بما يلى:-</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أصول الخاضعة للسيطرة.</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صروف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ة فى الدخل الذى يتم كسبه من ا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836280"/>
            <a:ext cx="8137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للاصول الخاضعة لسيطرة مشت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0" name="PlaceHolder 2"/>
          <p:cNvSpPr>
            <a:spLocks noGrp="1"/>
          </p:cNvSpPr>
          <p:nvPr>
            <p:ph/>
          </p:nvPr>
        </p:nvSpPr>
        <p:spPr>
          <a:xfrm>
            <a:off x="394920" y="1915920"/>
            <a:ext cx="8224920" cy="3671640"/>
          </a:xfrm>
          <a:prstGeom prst="rect">
            <a:avLst/>
          </a:prstGeom>
          <a:noFill/>
          <a:ln w="0">
            <a:noFill/>
          </a:ln>
        </p:spPr>
        <p:txBody>
          <a:bodyPr lIns="90000" rIns="90000" tIns="46800" bIns="46800" anchor="t">
            <a:normAutofit fontScale="86000"/>
          </a:bodyPr>
          <a:p>
            <a:pPr marL="46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شارك سوف يعترف فى قوائمه المالية المجمعة والمنفصلة:-</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حصته فى الأصول.</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التزامات يمكن أن يتحملها.</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التزامات يمكن تحملها بشكل مشترك مع شركاء آخرين فى علاقاتهم ب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دخل يتم استلامه من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مصروفات يتم تحملها بواسطة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مصروفات يتم تحملها فيما يتعلق بحصة فى المشروع المشتر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0" y="620280"/>
            <a:ext cx="40323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طرق حساب حصة المشارك</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68000" y="1628280"/>
            <a:ext cx="8224920" cy="2303640"/>
          </a:xfrm>
          <a:prstGeom prst="rect">
            <a:avLst/>
          </a:prstGeom>
          <a:noFill/>
          <a:ln w="0">
            <a:noFill/>
          </a:ln>
        </p:spPr>
        <p:txBody>
          <a:bodyPr lIns="90000" rIns="90000" tIns="46800" bIns="46800" anchor="t">
            <a:normAutofit fontScale="80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بمقتضى هذه الطريقة فإن حصة الشريك فى أى أصول، التزامات، ودخل، ومصروفات وتدفقات نقدية لمنشأة خاضعة لسيطرة مشتركة سوف تجمع مع البنود المتماثلة للشريك أو يتم التقرير عنها منفصلة، ويتم تطبيق المبادئ التالية:-</a:t>
            </a:r>
            <a:endParaRPr b="0" lang="en-US" sz="3200" spc="-1" strike="noStrike">
              <a:solidFill>
                <a:srgbClr val="ffffff"/>
              </a:solidFill>
              <a:latin typeface="Arial"/>
            </a:endParaRPr>
          </a:p>
        </p:txBody>
      </p:sp>
      <p:sp>
        <p:nvSpPr>
          <p:cNvPr id="153" name=""/>
          <p:cNvSpPr/>
          <p:nvPr/>
        </p:nvSpPr>
        <p:spPr>
          <a:xfrm>
            <a:off x="324000" y="3860640"/>
            <a:ext cx="8224560" cy="1513080"/>
          </a:xfrm>
          <a:prstGeom prst="rect">
            <a:avLst/>
          </a:prstGeom>
          <a:noFill/>
          <a:ln w="0">
            <a:noFill/>
          </a:ln>
        </p:spPr>
        <p:style>
          <a:lnRef idx="0"/>
          <a:fillRef idx="0"/>
          <a:effectRef idx="0"/>
          <a:fontRef idx="minor"/>
        </p:style>
        <p:txBody>
          <a:bodyPr lIns="90000" rIns="90000" tIns="46800" bIns="46800" anchor="t">
            <a:normAutofit/>
          </a:bodyPr>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 يمكن إستخدام أى من الصيغتين التاليتين:-</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جميع البنود المماثلة بند بعد بند.</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بيان البنود فى سطور منفص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052280"/>
            <a:ext cx="8224920" cy="3095640"/>
          </a:xfrm>
          <a:prstGeom prst="rect">
            <a:avLst/>
          </a:prstGeom>
          <a:noFill/>
          <a:ln w="0">
            <a:noFill/>
          </a:ln>
        </p:spPr>
        <p:txBody>
          <a:bodyPr lIns="90000" rIns="90000" tIns="46800" bIns="46800" anchor="t">
            <a:normAutofit fontScale="80000"/>
          </a:bodyPr>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ويتم تضمين الحصص فى المشروعات المشتركة فى القوائم المالية الجمعة للمشارك حتى لو لم يكن له فروع أخرى.</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تبدأ طريقة التجميع النسبى عندما يكتسب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د -</a:t>
            </a:r>
            <a:r>
              <a:rPr b="1" lang="ar-EG" sz="2800" spc="-1" strike="noStrike">
                <a:solidFill>
                  <a:srgbClr val="ffffff"/>
                </a:solidFill>
                <a:latin typeface="Arial"/>
              </a:rPr>
              <a:t>	</a:t>
            </a:r>
            <a:r>
              <a:rPr b="1" lang="ar-EG" sz="2800" spc="-1" strike="noStrike">
                <a:solidFill>
                  <a:srgbClr val="ffffff"/>
                </a:solidFill>
                <a:latin typeface="Arial"/>
              </a:rPr>
              <a:t>يتوقف العمل بطريقة التجميع النسبى عندما يفقد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هـ-</a:t>
            </a:r>
            <a:r>
              <a:rPr b="1" lang="ar-EG" sz="2800" spc="-1" strike="noStrike">
                <a:solidFill>
                  <a:srgbClr val="ffffff"/>
                </a:solidFill>
                <a:latin typeface="Arial"/>
              </a:rPr>
              <a:t>	</a:t>
            </a:r>
            <a:r>
              <a:rPr b="1" lang="ar-EG" sz="2800" spc="-1" strike="noStrike">
                <a:solidFill>
                  <a:srgbClr val="ffffff"/>
                </a:solidFill>
                <a:latin typeface="Arial"/>
              </a:rPr>
              <a:t>يمكن عمل مقاصة بين الاصول والخصوم فقط فى الحالات التالية:-</a:t>
            </a:r>
            <a:endParaRPr b="0" lang="en-US" sz="2800" spc="-1" strike="noStrike">
              <a:solidFill>
                <a:srgbClr val="ffffff"/>
              </a:solidFill>
              <a:latin typeface="Arial"/>
            </a:endParaRPr>
          </a:p>
        </p:txBody>
      </p:sp>
      <p:sp>
        <p:nvSpPr>
          <p:cNvPr id="155" name=""/>
          <p:cNvSpPr/>
          <p:nvPr/>
        </p:nvSpPr>
        <p:spPr>
          <a:xfrm>
            <a:off x="324000" y="4292640"/>
            <a:ext cx="7704000" cy="2022480"/>
          </a:xfrm>
          <a:prstGeom prst="rect">
            <a:avLst/>
          </a:prstGeom>
          <a:noFill/>
          <a:ln w="0">
            <a:noFill/>
          </a:ln>
        </p:spPr>
        <p:style>
          <a:lnRef idx="0"/>
          <a:fillRef idx="0"/>
          <a:effectRef idx="0"/>
          <a:fontRef idx="minor"/>
        </p:style>
        <p:txBody>
          <a:bodyPr lIns="90000" rIns="90000" tIns="46800" bIns="46800" anchor="t">
            <a:spAutoFit/>
          </a:bodyPr>
          <a:p>
            <a:pPr marL="352440" indent="-35244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وجود حق قانونى بذلك.</a:t>
            </a:r>
            <a:endParaRPr b="0" lang="en-US" sz="2800" spc="-1" strike="noStrike">
              <a:solidFill>
                <a:srgbClr val="ffffff"/>
              </a:solidFill>
              <a:latin typeface="Arial"/>
            </a:endParaRPr>
          </a:p>
          <a:p>
            <a:pPr marL="352440" indent="-352440"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أن يتحقق الأصل ويتم تسوية الالتزام فى نفس الوقت وعلى أساس صاف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84720" y="980640"/>
            <a:ext cx="26640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افصاح</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7" name="PlaceHolder 2"/>
          <p:cNvSpPr>
            <a:spLocks noGrp="1"/>
          </p:cNvSpPr>
          <p:nvPr>
            <p:ph/>
          </p:nvPr>
        </p:nvSpPr>
        <p:spPr>
          <a:xfrm>
            <a:off x="468000" y="2133720"/>
            <a:ext cx="8224920" cy="2303280"/>
          </a:xfrm>
          <a:prstGeom prst="rect">
            <a:avLst/>
          </a:prstGeom>
          <a:noFill/>
          <a:ln w="0">
            <a:noFill/>
          </a:ln>
        </p:spPr>
        <p:txBody>
          <a:bodyPr lIns="90000" rIns="90000" tIns="46800" bIns="46800" anchor="t">
            <a:normAutofit fontScale="85000"/>
          </a:bodyPr>
          <a:p>
            <a:pPr marL="458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التزامات المحتملة التالية بشكل منفصل عن غيرها:-</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تحدث بشكل مشترك مع المشاركين الآخرين فى المشروع.</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الالتزامات المحتملة للمشروع المشترك.</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حتمالات حدوث الالتزامات للمشاركين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7920"/>
            <a:ext cx="8224920" cy="4032360"/>
          </a:xfrm>
          <a:prstGeom prst="rect">
            <a:avLst/>
          </a:prstGeom>
          <a:noFill/>
          <a:ln w="0">
            <a:noFill/>
          </a:ln>
        </p:spPr>
        <p:txBody>
          <a:bodyPr lIns="90000" rIns="90000" tIns="46800" bIns="46800" anchor="t">
            <a:normAutofit fontScale="89000"/>
          </a:bodyPr>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تعهدات التالية بشكل منفصل شاملاً:-</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عهدات التى تحدث بشكل مشترك مع المشاركين الآخرين.</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تعهدات الشمروع المشترك.</a:t>
            </a:r>
            <a:endParaRPr b="0" lang="en-US" sz="2800" spc="-1" strike="noStrike">
              <a:solidFill>
                <a:srgbClr val="ffffff"/>
              </a:solidFill>
              <a:latin typeface="Arial"/>
            </a:endParaRPr>
          </a:p>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عرض قائمة بالشركاء الهامين فى المشروع المشترك شاملة:-</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سماء الشركاء.</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صف لحصصهم فى المشروع المشترك ككل.</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لكياته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000" y="1773360"/>
            <a:ext cx="8224920" cy="3743280"/>
          </a:xfrm>
          <a:prstGeom prst="rect">
            <a:avLst/>
          </a:prstGeom>
          <a:noFill/>
          <a:ln w="0">
            <a:noFill/>
          </a:ln>
        </p:spPr>
        <p:txBody>
          <a:bodyPr lIns="90000" rIns="90000" tIns="46800" bIns="46800" anchor="t">
            <a:normAutofit fontScale="90000"/>
          </a:bodyPr>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على المنشأة المشاركة التى تستخدم شكل التقرير تجميع نسبى بند بعد بند أو طريقة حقوق الملكية أن تفصح عن المبالغ المجمعة لكل من الأصول المتداولة والأصول طويلة الاجل والخصوم المتداولة والخصوم طويلة الأجل والدخل والمصروفات المتعلقة بالمشروع المشترك.</a:t>
            </a:r>
            <a:endParaRPr b="0" lang="en-US" sz="2800" spc="-1" strike="noStrike">
              <a:solidFill>
                <a:srgbClr val="ffffff"/>
              </a:solidFill>
              <a:latin typeface="Arial"/>
            </a:endParaRPr>
          </a:p>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على المنشأة المشاركة التى لا تصدر قوائم مالية مجمعة (لأنه ليس لها فروع أخرى) أن تفصح عن المعلومات الموضحة أعلا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8920" y="228600"/>
            <a:ext cx="3384360" cy="85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ffff00"/>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p:nvPr>
        </p:nvSpPr>
        <p:spPr>
          <a:xfrm>
            <a:off x="1042920" y="1268280"/>
            <a:ext cx="6624720" cy="4897440"/>
          </a:xfrm>
          <a:prstGeom prst="rect">
            <a:avLst/>
          </a:prstGeom>
          <a:noFill/>
          <a:ln w="0">
            <a:noFill/>
          </a:ln>
        </p:spPr>
        <p:txBody>
          <a:bodyPr lIns="90000" rIns="90000" tIns="46800" bIns="46800" anchor="t">
            <a:normAutofit fontScale="90000"/>
          </a:bodyPr>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دف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نطاق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ريفات</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خصائص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تفاق  التعاقد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شكال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مليات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نشآ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حصص والعمليا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اصول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حساب حصة المشارك</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التجميع الفن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حقوق الملكي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واعد المحاسبية العامة. </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رض والافصا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87640" y="1844280"/>
            <a:ext cx="1954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000" y="2924280"/>
            <a:ext cx="8142120" cy="129528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توفير المعلومات اللازمة للمستخدمين عن استثمارات الملاك فى المشروعات المشتركة بحصة فى المكاسب وصافى الأصول الأصلية ل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04000" y="404280"/>
            <a:ext cx="1944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fontScale="87000"/>
          </a:bodyPr>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عن المشروعات المشتركة والتق</a:t>
            </a:r>
            <a:r>
              <a:rPr b="1" lang="ar-EG" sz="2800" spc="-1" strike="noStrike">
                <a:solidFill>
                  <a:srgbClr val="ffffff"/>
                </a:solidFill>
                <a:latin typeface="Arial"/>
              </a:rPr>
              <a:t>ا</a:t>
            </a:r>
            <a:r>
              <a:rPr b="1" lang="ar-SA" sz="2800" spc="-1" strike="noStrike">
                <a:solidFill>
                  <a:srgbClr val="ffffff"/>
                </a:solidFill>
                <a:latin typeface="Arial"/>
              </a:rPr>
              <a:t>رير عن أصول</a:t>
            </a:r>
            <a:r>
              <a:rPr b="1" lang="ar-EG" sz="2800" spc="-1" strike="noStrike">
                <a:solidFill>
                  <a:srgbClr val="ffffff"/>
                </a:solidFill>
                <a:latin typeface="Arial"/>
              </a:rPr>
              <a:t>ها</a:t>
            </a:r>
            <a:r>
              <a:rPr b="1" lang="ar-SA" sz="2800" spc="-1" strike="noStrike">
                <a:solidFill>
                  <a:srgbClr val="ffffff"/>
                </a:solidFill>
                <a:latin typeface="Arial"/>
              </a:rPr>
              <a:t> والتزامات</a:t>
            </a:r>
            <a:r>
              <a:rPr b="1" lang="ar-EG" sz="2800" spc="-1" strike="noStrike">
                <a:solidFill>
                  <a:srgbClr val="ffffff"/>
                </a:solidFill>
                <a:latin typeface="Arial"/>
              </a:rPr>
              <a:t>ها</a:t>
            </a:r>
            <a:r>
              <a:rPr b="1" lang="ar-SA" sz="2800" spc="-1" strike="noStrike">
                <a:solidFill>
                  <a:srgbClr val="ffffff"/>
                </a:solidFill>
                <a:latin typeface="Arial"/>
              </a:rPr>
              <a:t> </a:t>
            </a:r>
            <a:r>
              <a:rPr b="1" lang="ar-EG" sz="2800" spc="-1" strike="noStrike">
                <a:solidFill>
                  <a:srgbClr val="ffffff"/>
                </a:solidFill>
                <a:latin typeface="Arial"/>
              </a:rPr>
              <a:t>والدخل</a:t>
            </a:r>
            <a:r>
              <a:rPr b="1" lang="ar-SA" sz="2800" spc="-1" strike="noStrike">
                <a:solidFill>
                  <a:srgbClr val="ffffff"/>
                </a:solidFill>
                <a:latin typeface="Arial"/>
              </a:rPr>
              <a:t> </a:t>
            </a:r>
            <a:r>
              <a:rPr b="1" lang="ar-EG" sz="2800" spc="-1" strike="noStrike">
                <a:solidFill>
                  <a:srgbClr val="ffffff"/>
                </a:solidFill>
                <a:latin typeface="Arial"/>
              </a:rPr>
              <a:t>وال</a:t>
            </a:r>
            <a:r>
              <a:rPr b="1" lang="ar-SA" sz="2800" spc="-1" strike="noStrike">
                <a:solidFill>
                  <a:srgbClr val="ffffff"/>
                </a:solidFill>
                <a:latin typeface="Arial"/>
              </a:rPr>
              <a:t>مصروفات </a:t>
            </a:r>
            <a:r>
              <a:rPr b="1" lang="ar-EG" sz="2800" spc="-1" strike="noStrike">
                <a:solidFill>
                  <a:srgbClr val="ffffff"/>
                </a:solidFill>
                <a:latin typeface="Arial"/>
              </a:rPr>
              <a:t>وبغض النظر عن مكونات وأشكال المشروعات المشتركة.</a:t>
            </a:r>
            <a:endParaRPr b="0" lang="en-US" sz="2800" spc="-1" strike="noStrike">
              <a:solidFill>
                <a:srgbClr val="ffffff"/>
              </a:solidFill>
              <a:latin typeface="Arial"/>
            </a:endParaRPr>
          </a:p>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طبقاً لهذا المعيار سوف تحاسب المنشآت عن الاستثمارات فى مشروعات مشتركة كمشروع مشترك فى حين أنه لا يطبق على الحصص فى المشروعات ذات السيطرة المشتركة المملوكة من:-</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ؤسسات مال المخاط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ناديق الاستثمار وأمناء الاستثما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المتصلة بصناديق التأمين.</a:t>
            </a:r>
            <a:endParaRPr b="0" lang="en-US" sz="2800" spc="-1" strike="noStrike">
              <a:solidFill>
                <a:srgbClr val="ffffff"/>
              </a:solidFill>
              <a:latin typeface="Arial"/>
            </a:endParaRPr>
          </a:p>
          <a:p>
            <a:pPr marL="387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يث تعالج محاسبياً طبقاً لمعيار المحاسبة المصرى رقم (</a:t>
            </a:r>
            <a:r>
              <a:rPr b="1" lang="ar-EG" sz="2800" spc="-1" strike="noStrike">
                <a:solidFill>
                  <a:srgbClr val="ffffff"/>
                </a:solidFill>
                <a:latin typeface="Arial"/>
              </a:rPr>
              <a:t>26</a:t>
            </a:r>
            <a:r>
              <a:rPr b="1" lang="ar-EG" sz="2800" spc="-1" strike="noStrike">
                <a:solidFill>
                  <a:srgbClr val="ffffff"/>
                </a:solidFill>
                <a:latin typeface="Arial"/>
              </a:rPr>
              <a:t>) الادوات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5640" y="549000"/>
            <a:ext cx="483552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صائص المشروعات المشتركة:-</a:t>
            </a:r>
            <a:endParaRPr b="0" lang="en-US" sz="3200" spc="-1" strike="noStrike">
              <a:solidFill>
                <a:srgbClr val="e3e3ff"/>
              </a:solidFill>
              <a:latin typeface="Arial"/>
            </a:endParaRPr>
          </a:p>
        </p:txBody>
      </p:sp>
      <p:sp>
        <p:nvSpPr>
          <p:cNvPr id="131" name="PlaceHolder 2"/>
          <p:cNvSpPr>
            <a:spLocks noGrp="1"/>
          </p:cNvSpPr>
          <p:nvPr>
            <p:ph/>
          </p:nvPr>
        </p:nvSpPr>
        <p:spPr>
          <a:xfrm>
            <a:off x="456840" y="1600200"/>
            <a:ext cx="8218440" cy="4060800"/>
          </a:xfrm>
          <a:prstGeom prst="rect">
            <a:avLst/>
          </a:prstGeom>
          <a:noFill/>
          <a:ln w="0">
            <a:noFill/>
          </a:ln>
        </p:spPr>
        <p:txBody>
          <a:bodyPr lIns="90000" rIns="90000" tIns="46800" bIns="46800" anchor="t">
            <a:normAutofit fontScale="88000"/>
          </a:bodyPr>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ود أثنان من المشاركين بموجب إتفاق تعاقدى.</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بنى المشروع المشترك على أساس السيطرة المشتركة والتى تقضى بوجود موافقة تعاقدية على المشاركة فى السيطرة من خلال المشروع المشترك بمعنى أنه لا يوجد طرف واحد من الاطراف المشاركة يستطيع أن يمارس سيطرة من جانب واحد فقط.</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شارك فى مشروع مشترك هو طرف بالمشروع ويحق له السيطرة المشتركة طبقاً للاتفاق التعاقد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76720" y="549000"/>
            <a:ext cx="1809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ستخدم المصطلحات التالية في هذا المعيار بالمعنى المذكور قرين كل من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a:t>
            </a:r>
            <a:r>
              <a:rPr b="1" lang="ar-SA" sz="2000" spc="-1" strike="noStrike">
                <a:solidFill>
                  <a:srgbClr val="ffffff"/>
                </a:solidFill>
                <a:latin typeface="Arial"/>
              </a:rPr>
              <a:t> هي مدى القدرة على التحكم في السياسات المالية والتشغيلية لنشاط اقتصادي وذلك للحصول على منفعة من أنشطت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طريقة حقوق الملكية</a:t>
            </a:r>
            <a:r>
              <a:rPr b="1" lang="ar-SA" sz="2000" spc="-1" strike="noStrike">
                <a:solidFill>
                  <a:srgbClr val="ffffff"/>
                </a:solidFill>
                <a:latin typeface="Arial"/>
              </a:rPr>
              <a:t> هي طريقة محاسبية يتم بناء عليها الاعتراف بالحصة عند اقتنائها في المنشأة الخاضعة للسيطرة المشتركة بتكلفة الاقتناء ثم يتم تعديل تلك التكلفة بكل تغير يطرأ على حصة المشارك في صافي أصول المنشأة . وتظهر قائمة الدخل نصيب صاحب الحصة في نتائج أعمال المنشأة الخاضعة للسيطرة المشتركة .</a:t>
            </a:r>
            <a:endParaRPr b="0" lang="en-US" sz="2000" spc="-1" strike="noStrike">
              <a:solidFill>
                <a:srgbClr val="ffffff"/>
              </a:solidFill>
              <a:latin typeface="Arial"/>
            </a:endParaRPr>
          </a:p>
          <a:p>
            <a:pPr marL="7012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ستثمر في المشروع المشترك</a:t>
            </a:r>
            <a:r>
              <a:rPr b="1" lang="ar-SA" sz="2000" spc="-1" strike="noStrike">
                <a:solidFill>
                  <a:srgbClr val="ffffff"/>
                </a:solidFill>
                <a:latin typeface="Arial"/>
              </a:rPr>
              <a:t> هو طرف في المشروع المشترك ولكن لا يشارك في السيطرة على المشروع المشترك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 المشتركة</a:t>
            </a:r>
            <a:r>
              <a:rPr b="1" lang="ar-SA" sz="2000" spc="-1" strike="noStrike">
                <a:solidFill>
                  <a:srgbClr val="ffffff"/>
                </a:solidFill>
                <a:latin typeface="Arial"/>
              </a:rPr>
              <a:t> هي اتفاقية تعاقدية للمشاركة في السيطرة على نشاط اقتصادي ، ولا تنشأ إلا عندما تتطلب القرارات الإستراتيجية التمويلية والتشغيلية المرتبطة بالنشاط موافقة الأطراف المشاركة في الرقابة بالإجماع</a:t>
            </a:r>
            <a:r>
              <a:rPr b="1" lang="ar-EG" sz="2000" spc="-1" strike="noStrike">
                <a:solidFill>
                  <a:srgbClr val="ffffff"/>
                </a:solidFill>
                <a:latin typeface="Arial"/>
              </a:rPr>
              <a:t>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شروع المشترك</a:t>
            </a:r>
            <a:r>
              <a:rPr b="1" lang="ar-SA" sz="2000" spc="-1" strike="noStrike">
                <a:solidFill>
                  <a:srgbClr val="ffffff"/>
                </a:solidFill>
                <a:latin typeface="Arial"/>
              </a:rPr>
              <a:t> هو اتفاق تعاقدي يقوم بموجبه طرفان أو أكثر بممارسة نشاط اقتصادي خاضع لرقابة </a:t>
            </a:r>
            <a:r>
              <a:rPr b="1" lang="ar-EG" sz="2000" spc="-1" strike="noStrike">
                <a:solidFill>
                  <a:srgbClr val="ffffff"/>
                </a:solidFill>
                <a:latin typeface="Arial"/>
              </a:rPr>
              <a:t>وسيطرة </a:t>
            </a:r>
            <a:r>
              <a:rPr b="1" lang="ar-SA" sz="2000" spc="-1" strike="noStrike">
                <a:solidFill>
                  <a:srgbClr val="ffffff"/>
                </a:solidFill>
                <a:latin typeface="Arial"/>
              </a:rPr>
              <a:t>مشتركة</a:t>
            </a:r>
            <a:r>
              <a:rPr b="1" i="1"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720" y="476280"/>
            <a:ext cx="159372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تجميع النسبي</a:t>
            </a:r>
            <a:r>
              <a:rPr b="1" lang="ar-SA" sz="2000" spc="-1" strike="noStrike">
                <a:solidFill>
                  <a:srgbClr val="ffffff"/>
                </a:solidFill>
                <a:latin typeface="Arial"/>
              </a:rPr>
              <a:t> هو أسلوب للمحاسبة و الذي من خلاله يتم تجميع حصة المشارك من أصول           والتزامات وإيرادات ومصروفات الوحدة الخاضعة للسيطرة المشتركة مع البنود المتماثلة بالقوائم المالية للمشارك أو يتم تسجيلها في بنود منفصلة بالقوائم المالية للمشارك (مالك الحصة).</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قوائم المالية المستقلة</a:t>
            </a:r>
            <a:r>
              <a:rPr b="1" lang="ar-SA" sz="2000" spc="-1" strike="noStrike">
                <a:solidFill>
                  <a:srgbClr val="ffffff"/>
                </a:solidFill>
                <a:latin typeface="Arial"/>
              </a:rPr>
              <a:t> هي تلك القوائم التي يتم عرضها بواسطة الشركة القابضة أو أى مستثمر في شركة شقيقة أو صاحب حصة في مشروع مشترك والتي يتم فيها معالجة الاستثمارات على أساس الحصة المباشرة في الملكية وليس على أساس نتائج الأعمال و صافي أصول الشركات المستثمر فيها.</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نفوذ المؤثر</a:t>
            </a:r>
            <a:r>
              <a:rPr b="1" lang="ar-SA" sz="2000" spc="-1" strike="noStrike">
                <a:solidFill>
                  <a:srgbClr val="ffffff"/>
                </a:solidFill>
                <a:latin typeface="Arial"/>
              </a:rPr>
              <a:t> هي القدرة على المشاركة في اتخاذ القرارات المتعلقة بالبيانات المالية و سياسات التشغيل للنشاط الاقتصادي ولكن لا تصل تلك القدرة إلى درجة السيطرة أو السيطرة المشتركة على تلك السياسات .</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احب الحصة</a:t>
            </a:r>
            <a:r>
              <a:rPr b="1" lang="ar-SA" sz="2000" spc="-1" strike="noStrike">
                <a:solidFill>
                  <a:srgbClr val="ffffff"/>
                </a:solidFill>
                <a:latin typeface="Arial"/>
              </a:rPr>
              <a:t> هو طرف في المشروع المشترك ولديه سيطرة مشتركة على المشروع المشتر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84720" y="620640"/>
            <a:ext cx="260208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اتفاق التعاقدي</a:t>
            </a:r>
            <a:endParaRPr b="0" lang="en-US" sz="3200" spc="-1" strike="noStrike">
              <a:solidFill>
                <a:srgbClr val="e3e3ff"/>
              </a:solidFill>
              <a:latin typeface="Arial"/>
            </a:endParaRPr>
          </a:p>
        </p:txBody>
      </p:sp>
      <p:sp>
        <p:nvSpPr>
          <p:cNvPr id="137"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9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ما يميز المشروعات المشتركة عن الشركات الزميلة أو الشقيقة</a:t>
            </a:r>
            <a:r>
              <a:rPr b="1" lang="ar-SA" sz="2800" spc="-1" strike="noStrike">
                <a:solidFill>
                  <a:srgbClr val="ffffff"/>
                </a:solidFill>
                <a:latin typeface="Arial"/>
              </a:rPr>
              <a:t> </a:t>
            </a:r>
            <a:r>
              <a:rPr b="1" lang="ar-EG" sz="2800" spc="-1" strike="noStrike">
                <a:solidFill>
                  <a:srgbClr val="ffffff"/>
                </a:solidFill>
                <a:latin typeface="Arial"/>
              </a:rPr>
              <a:t>و</a:t>
            </a:r>
            <a:r>
              <a:rPr b="1" lang="ar-SA" sz="2800" spc="-1" strike="noStrike">
                <a:solidFill>
                  <a:srgbClr val="ffffff"/>
                </a:solidFill>
                <a:latin typeface="Arial"/>
              </a:rPr>
              <a:t>على سبيل المثال وجود عقد بين حاملي الحصص أو محضر اجتماع بين حاملي الحصص ، ويتم الاتفاق في بعض الحالات على تضمين النظام الأساسي أو اللائحة الداخلية للمشروع المشترك لهذه الاتفاقات ، وأيا ما كان شكل الاتفاق التعاقدي فهو عادة يكتب ويتفق عليه في أى من الحالات الآتية :</a:t>
            </a:r>
            <a:endParaRPr b="0" lang="en-US" sz="2800" spc="-1" strike="noStrike">
              <a:solidFill>
                <a:srgbClr val="ffffff"/>
              </a:solidFill>
              <a:latin typeface="Arial"/>
            </a:endParaRPr>
          </a:p>
        </p:txBody>
      </p:sp>
      <p:sp>
        <p:nvSpPr>
          <p:cNvPr id="138" name=""/>
          <p:cNvSpPr/>
          <p:nvPr/>
        </p:nvSpPr>
        <p:spPr>
          <a:xfrm>
            <a:off x="611280" y="3860640"/>
            <a:ext cx="8137440" cy="3020040"/>
          </a:xfrm>
          <a:prstGeom prst="rect">
            <a:avLst/>
          </a:prstGeom>
          <a:noFill/>
          <a:ln w="0">
            <a:noFill/>
          </a:ln>
        </p:spPr>
        <p:style>
          <a:lnRef idx="0"/>
          <a:fillRef idx="0"/>
          <a:effectRef idx="0"/>
          <a:fontRef idx="minor"/>
        </p:style>
        <p:txBody>
          <a:bodyPr lIns="90000" rIns="90000" tIns="46800" bIns="46800" anchor="t">
            <a:spAutoFit/>
          </a:bodyPr>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نشاط والمدة والتزامات التقارير للمشروع المشترك.</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تعيين مجلس إدارة أو هيئة الإدارة للمشروع المشترك وحق التصويت لحاملي الحصص.</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رأس المال لحاملي الحصص .</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د)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حاملي الحصص في المخرجات والإيرادات والمصروفات أو نتائج المشروع المشتر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1267920"/>
            <a:ext cx="447516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شكال المشروع</a:t>
            </a:r>
            <a:r>
              <a:rPr b="1" lang="ar-EG" sz="3200" spc="-1" strike="noStrike" u="sng">
                <a:solidFill>
                  <a:srgbClr val="ffff00"/>
                </a:solidFill>
                <a:uFillTx/>
                <a:latin typeface="Arial"/>
              </a:rPr>
              <a:t>ات</a:t>
            </a:r>
            <a:r>
              <a:rPr b="1" lang="ar-SA" sz="3200" spc="-1" strike="noStrike" u="sng">
                <a:solidFill>
                  <a:srgbClr val="ffff00"/>
                </a:solidFill>
                <a:uFillTx/>
                <a:latin typeface="Arial"/>
              </a:rPr>
              <a:t> المشترك</a:t>
            </a:r>
            <a:r>
              <a:rPr b="1" lang="ar-EG" sz="3200" spc="-1" strike="noStrike" u="sng">
                <a:solidFill>
                  <a:srgbClr val="ffff00"/>
                </a:solidFill>
                <a:uFillTx/>
                <a:latin typeface="Arial"/>
              </a:rPr>
              <a:t>ة</a:t>
            </a:r>
            <a:endParaRPr b="0" lang="en-US" sz="3200" spc="-1" strike="noStrike">
              <a:solidFill>
                <a:srgbClr val="e3e3ff"/>
              </a:solidFill>
              <a:latin typeface="Arial"/>
            </a:endParaRPr>
          </a:p>
        </p:txBody>
      </p:sp>
      <p:sp>
        <p:nvSpPr>
          <p:cNvPr id="140" name="PlaceHolder 2"/>
          <p:cNvSpPr>
            <a:spLocks noGrp="1"/>
          </p:cNvSpPr>
          <p:nvPr>
            <p:ph/>
          </p:nvPr>
        </p:nvSpPr>
        <p:spPr>
          <a:xfrm>
            <a:off x="468360" y="2276640"/>
            <a:ext cx="8229600" cy="2620800"/>
          </a:xfrm>
          <a:prstGeom prst="rect">
            <a:avLst/>
          </a:prstGeom>
          <a:noFill/>
          <a:ln w="0">
            <a:noFill/>
          </a:ln>
        </p:spPr>
        <p:txBody>
          <a:bodyPr lIns="90000" rIns="90000" tIns="46800" bIns="46800" anchor="t">
            <a:normAutofit fontScale="91000"/>
          </a:bodyPr>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حدد هذا المعيار ثلاثة أشكال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مليات الخاضعة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صول الخاضعة لسيطرة الش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نشآت الخاضعة لسيطرة مشت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48:52Z</dcterms:created>
  <dc:creator>lman</dc:creator>
  <dc:description/>
  <dc:language>en-US</dc:language>
  <cp:lastModifiedBy>elmoetaz</cp:lastModifiedBy>
  <dcterms:modified xsi:type="dcterms:W3CDTF">2006-09-19T11:21:59Z</dcterms:modified>
  <cp:revision>29</cp:revision>
  <dc:subject/>
  <dc:title> معيار المحاسبة المصرى رقم (27) </dc:title>
</cp:coreProperties>
</file>